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2FD6-18D2-4D14-B477-AFA28534A0B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AA5D-6FD7-4ACA-91EB-13A5A800D07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33F01-3800-46BE-AC03-A09C68F5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6F4C4-A151-40A0-80AD-CD9FE521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95C89-6BD0-46CB-B1FE-0605D78E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640CE-68B3-45BD-96BF-5BAFC276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05669-42BD-4B58-85BD-0F75B0AA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9FD10-8F36-4E5D-9C33-9C0004DC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00EB0-E87F-4E2D-8B57-87C95BB1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D5282-A6D6-4909-BB00-A2CF896B0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99FC0-0ADE-4597-89C6-DFF06CC0C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8C8A8-80CE-49C2-A4C3-D847B4AFF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2A83D-71CE-427C-A60F-1C8BC3DB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D76E6B-86B8-48CF-B659-222419CB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0FF1A-074E-4E28-8E9B-B5DAC892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909FD-DE3F-46F4-AE9A-715DAA43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EC100-3E77-4F11-AF22-A8F797D7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0784DD-EB19-4A34-B187-BED0750A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29F8A-DB88-449E-AD9A-F3B9D432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85B63-C504-42D4-9871-1C10E41E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7C000-1B28-4EE2-8C65-1FB55FD9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94284-9D8C-434E-94DF-50F5F567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E0ED5-C303-4A8A-B11C-B8D5C0080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DD6264-D545-458F-8178-FEBA2001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F58CE-D1D5-4FE5-B157-B855A60F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BA4DE5-49F0-45DE-BA91-335777D2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7BB66-796D-4621-B362-093C31BE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FAD36-4113-44A3-A2B7-CD84180A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E8F91-2AF6-4058-A07F-B9737763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C6A02-E620-4034-8777-D9CF9E4D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B8E051-AF74-4698-8748-E7D0A48D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303D6D-6956-4FFA-9967-A8652231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D8DA-7FE4-4D44-AF67-BF36EB4C1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67DA37-D54A-418D-A84E-B43A293F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57BAE8-7C2B-4484-BB16-D22CF156E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00C8BE-6294-484B-A10D-79E96C66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97F422-DAD8-4BC2-A10A-12CF89D5A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30D27-B919-4EAE-A610-C1D54A65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EAADA4-4B69-46B1-80DC-7889F31E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7A186-CA20-48E4-9309-F06C660E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95327-3571-49B0-BEC3-52210534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FC174-4028-4E40-B5FD-973A3F8D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59439-BD71-4B8F-8679-E0A4F27B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D0A3-8AAB-4DB8-A236-875C3B52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85E5F-7BFE-4058-8C46-FEFE4D1B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7F710-353B-4DA6-AAC9-A2FFCD6E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57A3A-652E-46B5-92D8-837B7A4C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48277-E899-4892-B48E-DE838B014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BA4B3-EB57-408D-8CEA-C186467A6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151E-D457-4C12-AC64-CB6CF5A8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7D96-77C6-4C38-8D73-B90592D8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DB9E-8242-4985-BB91-DE8A1F75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B721-03A1-4587-8974-5DB50494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B2B1-D891-4B44-82B5-D72D7FCE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685C-5AA7-4E7A-BA3D-0EBA9C72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5920-73EF-4B24-841D-5EE1B3B7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D101-DAD4-48A3-A949-BF52C272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4DAF-7CFB-4754-BECC-A16666FAE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C3EC-83FA-4482-9234-DF347F371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DA36-FCA9-463D-AADC-9E077E3D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610C-5D3B-4CE4-8615-32278499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D238-29BE-42AC-B9F1-59655375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79E8-A564-4906-838C-AAE275A7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9BDB-58F1-442A-8255-C936A018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AA25-A917-4809-B3A1-2EFCDC43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29D6-BD41-450A-8A4B-04A0FB4E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19AE-6A9E-491B-A177-5D54EBE9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2BE1-93BE-40BB-90DE-0759392C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6D5E-A92C-4BEA-9A9E-CD68D267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596D-80C4-4E45-8466-FCA5A9E8C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5A5D-2102-4638-BC52-8B3B59822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81F53-15EE-489B-A842-31B12CD6A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DCDDE-B1D8-4032-AA04-1A9EE5B0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A8340-2792-4AA5-96F2-D32B2D54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CC333-D15F-49E4-97DD-35B33A57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F799C-023C-4C06-8395-1E51D5A3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B4863-8D24-4CD5-9B9C-DD0D78BA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19CF6-1AF4-4E6E-8552-B17E1D53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2B8B3-FAF0-4441-A764-E0FFF396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B2F7B-00AA-4BFA-87D0-F9B9678B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D6743-BA09-40E4-BFFD-8C3D6D18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6157D-F112-43AE-9F62-6B44882C7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2756F-6A17-4E9D-89B2-830A9E16D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078AE-D175-4EB3-B6F8-7034AF9FE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23319-86E0-4BFA-AF99-3F13FD97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5A747-8F79-4899-88ED-E33BC403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8F99B-0CE4-49A2-9E47-E6EF4CC7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6976F-CBD2-49BA-BA47-2B12A427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8E6FF-7A43-4346-B468-54213CDE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61761-7E87-4691-AA67-6FE32F47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C0932-8DF8-4F3D-BCC4-810125A0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D993B-FEB6-408B-AA95-B2704C35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B1236-E6AD-4A97-8022-6D83D955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D44FF-C4E7-47DB-AA32-B2C7CAEBB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674E3-8CBC-4C0C-8396-2BA3F3305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89C89-2193-4633-9E3D-9BFA0E9CA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98E84-22E7-41EA-B38C-3D2228B9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EE0E5-D239-494A-81D1-5924FC40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4E4CB-AAEF-4BAA-9478-4515D5C1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367BE-D71F-44AC-9420-257119C0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41282-1651-4061-8BF8-BD8F3387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F19B0-D183-42D7-B20B-2BB67CB8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0F29E-171D-4D66-854B-94F69E63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E0760-E791-470E-9D6A-AE05D5BA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8E188-1FAD-4EA5-95E2-478D5668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CC4D5-1470-4671-B7C1-14C0C7012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8308A-0E36-46AC-93AC-E3FBB1267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4ED97-557A-4607-B840-F6ECE22E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7BFFF-CE84-469A-9549-2DD7D2BB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50F7C-1F35-4079-8AAA-63A960D3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D1669-2CCA-493A-A4EA-2C0E7D11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656E8-E81A-4D31-854B-AC837BE1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CE7FB-4917-4AF8-8FA9-13368C66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DFE1E-8135-4E8A-9D8D-113789E1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633E5-80B9-4204-B1D6-4C107F41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A854D-840E-40EB-911C-0952E8A9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5ECFB-4A73-4544-A71B-9BC7627C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34C73-3F26-47F0-BA7B-AB0AA4881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C3940-40D5-4664-B98E-30FB1F6C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430AB-A845-469B-9554-06A46CFBE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02B67-39D0-4AEA-9AE7-40A037A6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FB1F5-CD9D-4CB5-AE9C-4F3E6323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F776C-A0B0-48C6-A75D-8FF96786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22643-6005-4E35-901C-8F031A75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9556C-7DF5-4931-8C5F-85CE5415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6A9FE-BA96-495F-B6DD-292C36D2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80E29-2378-44D9-80BC-098EDE55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BABF2-9D9D-4749-9AF1-2A11B905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ACDFF-25D7-4F60-B9DF-AEF071E6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DAF61-3EF5-40B8-A1EB-828C0B248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00330-B25D-46C9-8F40-AE9481788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C55DB-BF2F-4898-A5C0-B29EF09EB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81386-825B-4DCF-B71F-7E710025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06160-F18C-4E14-AEF8-20372F63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185B-B08A-4779-95C9-1930BF3D2EAC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B78C-D455-4AD2-A1BA-516C9DC032EC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0A5D-40EB-4ED0-81F7-CC6CAE615809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6C38-F545-4F26-88E1-9DDCC6D03926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9837-5ACA-4201-A6D6-77D78A910625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AC40-C86D-4F7B-A9EB-DA8C79EB4126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068B-F946-45C8-8BE2-CC8E3FFB336E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1637-941A-4364-9DAF-AD74304699BD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1D10-ABE9-4A51-BDA7-ACFF41714E9C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8A66-5535-40F8-AC46-83E6FCEB3F34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8E3B-839D-46CD-913C-294EB3E4423E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f3.mpg" descr=""/>
          <p:cNvPicPr/>
          <p:nvPr/>
        </p:nvPicPr>
        <p:blipFill>
          <a:blip r:embed="rId1"/>
          <a:stretch/>
        </p:blipFill>
        <p:spPr>
          <a:xfrm>
            <a:off x="663480" y="496800"/>
            <a:ext cx="781848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840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51:50Z</dcterms:created>
  <dc:creator>Rob</dc:creator>
  <dc:description/>
  <dc:language>en-US</dc:language>
  <cp:lastModifiedBy>Rob</cp:lastModifiedBy>
  <dcterms:modified xsi:type="dcterms:W3CDTF">2009-12-14T10:17:20Z</dcterms:modified>
  <cp:revision>3</cp:revision>
  <dc:subject/>
  <dc:title>Slide 1</dc:title>
</cp:coreProperties>
</file>