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4AD7-4D4C-4B91-B335-FAB3F444DA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0011-6874-4572-90F5-1E047CE7A4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816E3-1514-452A-A5E6-A3059D4F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F40D-E82E-49CF-A0F3-35252188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B5590-1089-4B95-88B7-21089FAA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83623-E9D3-4141-820A-7A1B48E8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F6809-1CF1-4D90-A792-22D0A1E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8C97F-3F4F-4A00-B4BD-16C90E35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81D69-4C74-4ECD-A338-D72136C5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AE43-CC2C-476C-AC61-D893C8D7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405B9-B6B5-49EA-9A4E-3C9CFFD7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109D2-81E7-492E-B1AC-562B9CC0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2CD01-7E33-4BDF-8E20-BDE6F1C6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097F9-3711-4590-9A17-694A997C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A9619-C087-47F9-92E5-175984E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ADB9E-1A7E-43FA-A3E8-2BB8C866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0696F-29BD-4C05-854B-76971161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E934F-02EE-46FE-8751-95BA58F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8F961-D823-42DF-BD6A-161F0A2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6340D-AD81-437D-A421-8B84352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8C42A-D473-4A60-AD89-75890E0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E7164-2633-421B-A173-C11A9894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39D10-E9D7-41F6-A3A1-9D88DC57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EE750-CD3C-4BFB-A59A-F119866A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613A0-9355-47B3-878F-C7442828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E71F2-2637-4DCC-873E-45D21297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12AC6-59C3-4337-8173-75313F86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A7D33-2994-4970-BB05-0124C5E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C21FE-0FBF-4B3F-8E5D-F1EFB9E7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0A3E3-A995-4123-A84C-39AF439A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F0266-01C9-412F-9AA7-09E1F2BD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57945-73E2-4726-AED3-48DAC97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01A-D872-4BFB-93AE-7E3BCEF2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00DE2-31D6-4E1F-868A-CD9C9B8E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B50BB-DB6D-4D50-85A1-5D114FC1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1F5A2-812D-4765-8664-50BC7822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6DDB6-4F83-45C4-81F9-312E3D56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429E8-779E-4186-B9D8-214675E5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339F4-190D-4534-BD6D-53E95835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3481F-B866-45F1-AF1A-31BDA7DC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756D5-8F31-4F08-9536-9BB0EE47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D2122-8E09-4AEF-B151-B6459C78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7856C-95C7-4A25-88B1-76AF69F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F06-AA0A-4E6C-94C9-2F14C49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32992-1746-4DF0-B7AF-1FEF728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B39FB-DBC9-4EF9-B42A-05771FD4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8D91D-8B63-49A5-A19C-CA4653CF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60AC9-BEF8-4E50-8F3C-D94C1DB4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C8DAB-EFF3-46D2-814D-0936A033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58F-D6A1-4AE3-A56D-BD4AC4A5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5A6-FE7A-4F49-BB59-CBC72525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215-E466-4B6E-970A-5878B61A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D7F-346C-441C-9055-34D971C5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16C-9E2B-4D12-A50D-2684C82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DCE-44D7-408F-946E-62DB2832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865-FB54-4942-9CE2-A0A6D58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7D1-B406-445B-8EE4-BB8426D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FCE-7BA8-4917-B693-4347D68D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59C-8DA2-4373-97BE-C93B306F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D608-53A2-4317-8603-3025B287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5A8B-AF68-41F7-AAC4-B3A02B86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BF1B-7F09-432A-A975-99EBC460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25A5-599A-4638-ABC4-98AE4361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7A3-5B16-4D0E-B117-BFFFC820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7628-1DD6-4E22-A6BC-A0210952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C5C7-5C66-4399-973B-8AAE65BE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F73A-4E38-4061-9771-D3126EB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E64F-E738-489B-9B1A-C0C089F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EC04-3DB2-47B4-9F79-EBDA7687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F61D-9C7E-4A61-BC32-B585EF77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8B92-9E4A-4712-96F4-8EC307A5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7FB2-9E86-4FE1-AAC1-5AE12386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8BFC-7730-4985-B023-5A4E1938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E629-DAED-419F-8F71-BFD2AA21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469B-392A-416E-8135-58AADAD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0C85-B0B7-474E-B921-6392FE43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B8C9-474C-48B2-81B9-4C0FD5BA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BB88-B0E7-4935-8641-3B87B21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7B32-2C4F-44F6-AE40-19CD0AE7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2E35-B463-435F-A876-2F89C445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F5E9-E999-426B-859F-7475F2B9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E2F0-D39B-466E-A686-ADF31B1E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61DE-F4D2-4080-9FC2-B46ACAC5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5C04F-D8B1-4FAB-AD88-C23FAB8D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B33B-FA5D-4507-B6E9-33C35428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27293-BC71-4136-9A16-3C998D1D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0636-EC5F-4911-9C5E-A6EE6B7C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6DF1-FAF3-4FEB-B855-857AFF41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3E07-73CA-4744-AFF3-15193BE0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EC47-64F4-4B49-9C2E-6315C7C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8BA2-9568-420C-98A7-DD17932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5C5C-45DE-4DDA-A261-99153ED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F5A2-272E-4CE9-B1CE-788C451A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17C3-1C76-459E-BE07-16290823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167F-E437-422D-8346-013C4E79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58F1B-81D8-4EA9-9A34-D4FDE533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28E45-F073-4971-8941-C3028486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71C8-49AE-48CC-8451-78988BA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87724-D62E-44BB-AB4F-3071F06A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7E549-6AB3-4CDC-9E7D-56A1D49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BF53-96DA-4FC7-8DCE-C26E77D5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56C0-ECB3-437C-BF58-A27DD64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51C4E-B929-43F7-9A96-20740363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C234-BD52-429D-B9C7-CAB8D3C3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EDF91-63DC-4F96-A72B-6BE4D751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D5653-A717-40DB-B368-41911E88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0D9F-A0D4-4AC0-B731-5648C242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5B01-451C-4DE1-AB91-A711750A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5EA2-8780-4AE7-B64F-34C1882C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6944-81D2-4C43-98FC-AC8F0351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6FE97-CEFF-4AA2-A334-CA400E88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72C62-34C6-4249-910D-B4A5A9BF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28DBB-A5D2-4BAB-9EB4-56579C0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F8851-3EB5-4C24-BBA2-2431199C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D074-62DB-43AE-8BDA-4EC22F86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A3157-63A0-4E24-8B91-D73C400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5D48D-06DF-4B53-BDBC-0FC1413E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EA1C6-C852-4436-8C52-AB825D67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66580-E204-4D4D-9830-2749FFD7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116F0-5D5B-425A-93F7-E66F2ABE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86953-0695-4A1D-AA64-7A027A47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907E-8F74-46C2-9C57-FE985F81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E7A14-CC96-46F5-940A-97C63A44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29EA6-F33D-482C-8380-E60AAD08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C9DB-50D9-423A-9C06-97182AEA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AD8C2-73B9-481B-9860-274F40B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491ED-F57D-46A3-9CFB-EB1546D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DE516-C78D-4F35-81DB-D2DCAB06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2D51C-1261-43A7-8ADE-8A5F062A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600C-E11F-447E-8DE7-8E5D526C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E1505-69E9-49A7-BD2F-DB672333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C7244-30A5-490E-B271-50F6635D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D69F-2802-4E43-8E02-831E5C16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F704F-382F-4690-A9D4-9B3D6AED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75C8-96D4-4586-8CF6-4DC307FBBA8F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7D8C-08F8-42B0-ABDE-067768C17EA6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B27-0086-468C-B5EB-597B8952EF67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AB8-3F06-405A-92B8-3AE4C09AB8EE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4872-D3E8-4835-8079-80C70E43E8A3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DD28-06BF-4C72-BAD8-23DB4791243C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ECAA-52CF-4464-8CA8-A9E167FBFA98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8105-5D2E-49FE-BF7C-3657D6B995A1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1525-4738-47C7-B73E-33701843580E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F16-2C96-4D88-9307-4B5875BC48E8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C885-1990-409E-A3E0-CCD52B0CC700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bp.mpg" descr=""/>
          <p:cNvPicPr/>
          <p:nvPr/>
        </p:nvPicPr>
        <p:blipFill>
          <a:blip r:embed="rId1"/>
          <a:stretch/>
        </p:blipFill>
        <p:spPr>
          <a:xfrm>
            <a:off x="663480" y="496800"/>
            <a:ext cx="7817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40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1:50Z</dcterms:created>
  <dc:creator>Rob</dc:creator>
  <dc:description/>
  <dc:language>en-US</dc:language>
  <cp:lastModifiedBy>Rob</cp:lastModifiedBy>
  <dcterms:modified xsi:type="dcterms:W3CDTF">2009-12-11T13:54:07Z</dcterms:modified>
  <cp:revision>2</cp:revision>
  <dc:subject/>
  <dc:title>Slide 1</dc:title>
</cp:coreProperties>
</file>